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0ED-C6BA-4F91-9D5C-505D04F1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0AD-7123-4FC8-9A1E-4EE1891A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B6B-1FFA-46E1-9CE1-ABB400CA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922-8426-4D41-91EF-4C4EC578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CA1-ACB2-4555-BBF4-D8F16698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523-8577-4839-A337-257DF8F0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D5F-9789-4A7B-B76F-F2617CAC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5CB-938B-40FC-B476-71036D1B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1FF-E275-46B2-8164-6870BC0E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84A-E718-4760-9F57-3FCB227E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4EC-18D0-401E-BE8A-EA0F2FEC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9D8-497E-4115-8509-3848D7FE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4EF4-9A00-4D70-A300-B26C070EA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Storybook"/>
              </a:rPr>
              <a:t>Bunkhou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Storybook"/>
              </a:rPr>
              <a:t>Cords (of wood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9-01-22T18:30:34Z</dcterms:modified>
  <cp:revision>1</cp:revision>
  <dc:subject/>
  <dc:title>PowerPoint Presentation</dc:title>
</cp:coreProperties>
</file>